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B27B-13C4-4AEE-A8CB-8D266E8BB36D}" type="slidenum">
              <a:rPr b="0" lang="fa-I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E167-B8D5-44CF-B82C-89E96CA780E0}" type="slidenum">
              <a:rPr b="0" lang="fa-I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DEC-8749-4FCA-85EC-063F1D0E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D7D-134C-4762-83A1-78B2E690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196-9B70-4BCA-9276-3E327010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1CA-2566-4BB5-AFE1-76B5C535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242-2381-4BEF-9F48-081A1EAE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4C0-04C2-4C95-8FE4-C203BF47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9C6-4668-4D00-807B-CCB1FF51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A1D-E4B0-453F-85D0-BCB29451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6E0F-4BF5-489E-8805-5B36A0FE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B0C-E91E-4E32-933B-097609A4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602-16EA-4584-8DD0-AF6FE9B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5FD-7383-4E20-8435-0E790631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2B22-4587-4C2E-8B5F-F7D475D2C0AE}" type="slidenum">
              <a:rPr b="0" lang="fa-I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over"/>
          <p:cNvPicPr/>
          <p:nvPr/>
        </p:nvPicPr>
        <p:blipFill>
          <a:blip r:embed="rId1"/>
          <a:stretch/>
        </p:blipFill>
        <p:spPr>
          <a:xfrm>
            <a:off x="609480" y="2209680"/>
            <a:ext cx="762012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1676520" y="228600"/>
            <a:ext cx="5486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ahoma"/>
              </a:rPr>
              <a:t>ایمنی بر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-3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مجوز کار 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1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عمليات خاک برداری د رمناطقی که قبلا سيم برق درون زمين دفن گرديده  ، اخذ مجوز کار (حفاری و خاک برداری)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2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در صورت نياز به انجام کار بر روی سيستمهای برقدار (امکان قطع برق نباشد )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5-21-3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- جهت انجام عمليات تنش زدائی 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OST WELDING HEAT TREATMEN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) با ولتاژ بالا ، اخذ مجوز کار از واحد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 الزامی می باش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نكات ايمني</a:t>
            </a:r>
            <a:r>
              <a:rPr b="1" lang="ar-SA" sz="44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بالا رفتن از پايه هاي برق براي افراد غيرمسئول ممنوع و خطرناك است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خطر برق گرفتگي و سقوط جان افرادي را كه از پايه هاي برق بالا ميروند تهديد ميكن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مل وسايل فلزي با ارتفاع زياد ( لوله فلزي  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 نردبان فلزي و ...  ) در زيرو نزديك شبكه هاي برق بسيار خطرناك است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درصورت پاره شدن سيم هاي برق از دست زدن به آنها خود داري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وسايل برقي فاقد دو شاخه برق بسيار خطرناك و حادثه ساز است .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چ گاه به وسائل و ابزار برقي معيوب اطمينان نكني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ستفاده از يك پريز برق براي روشن نمودن همزمان چند وسيله برقي خطرناك و حادثه ساز است .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نگام تماس دست با بدنه فلزي وسايل برقي از تماس قسمتهاي ديگر بدن به ديوار يا شير آب و كابينت هاي فلزي خود داري كنيد و حتماً دمپايي پلاستيكي خشك بپوشي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حوادث برقي نسبت به بقيه حوادث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برابر خطرناكتر است . بيائيد از حوادث عبرت بگي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آب  هادي جريان برق است هنگام آب پاشي از بكارگيري شلنگ آب در نزديكي شبكه‌هاي و تجهيزات برقدار جداً خودداري كنيد 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تخريب عايق بندي مصرف كننده‌هاي الكتريكي جداً پرهيز شو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در صورت وجود هر گونه نقص در تجهيزات الكتريكي مراتب را به افراد متخصص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طلاع ده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ستفاده از ابزار فلزي مانند نردبان فلزي، چهار پايه فلزي و ... بعنوان زيرپائي هنگام تعويض لامپ ممكن است موجب تشديد برق گرفتگي در صورت تماس دست با هادي برق شو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تميز كردن هر گونه وسيله برقي ابتدا آنرا از پريز برق جدا نمائيد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نگام استفاده از تجهيزات الكتريكي از سالم بودن سيم رابط و دوشاخه و برقدار نبودن بدنه‌آن مطمئن شويد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ز قرار دادن اشياء سنگين و برنده بر روي سيمها و كابلهاي سيار خودداري نمائيد . سيم هاي سيار را بلافاصله پس از استفاده جمع آوري و در محل منلسب نگهداري نمائي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برخي لامپها توليد حرارت بالا نموده و لذا داغ مي شوند از قرار دادن اشياء قابل احتراق در نزديكي اين لامپها جدأ خودداري نمائي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. . هرگز از آب براي خاموش كردن آتش سوزيهاي نزديك تأسيسات و لوازم برقدار بدون قطع برق آنها استفاده ننمائي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73396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28" descr="254x3ds"/>
          <p:cNvPicPr/>
          <p:nvPr/>
        </p:nvPicPr>
        <p:blipFill>
          <a:blip r:embed="rId1"/>
          <a:stretch/>
        </p:blipFill>
        <p:spPr>
          <a:xfrm>
            <a:off x="457200" y="380880"/>
            <a:ext cx="4648320" cy="5791320"/>
          </a:xfrm>
          <a:prstGeom prst="rect">
            <a:avLst/>
          </a:prstGeom>
          <a:ln w="0">
            <a:noFill/>
          </a:ln>
        </p:spPr>
      </p:pic>
      <p:sp>
        <p:nvSpPr>
          <p:cNvPr id="86" name="Line 34"/>
          <p:cNvSpPr/>
          <p:nvPr/>
        </p:nvSpPr>
        <p:spPr>
          <a:xfrm flipV="1">
            <a:off x="685800" y="3657600"/>
            <a:ext cx="83808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5" descr="shock"/>
          <p:cNvPicPr/>
          <p:nvPr/>
        </p:nvPicPr>
        <p:blipFill>
          <a:blip r:embed="rId2"/>
          <a:stretch/>
        </p:blipFill>
        <p:spPr>
          <a:xfrm>
            <a:off x="5410080" y="380880"/>
            <a:ext cx="3645000" cy="5715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New York_2"/>
          <p:cNvPicPr/>
          <p:nvPr/>
        </p:nvPicPr>
        <p:blipFill>
          <a:blip r:embed="rId1"/>
          <a:stretch/>
        </p:blipFill>
        <p:spPr>
          <a:xfrm>
            <a:off x="2590920" y="36576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5ffff"/>
                </a:solidFill>
                <a:latin typeface="Tahoma"/>
              </a:rPr>
              <a:t>مقد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000" spc="-1" strike="noStrike">
                <a:solidFill>
                  <a:srgbClr val="ffffff"/>
                </a:solidFill>
                <a:latin typeface="Tahoma"/>
              </a:rPr>
              <a:t>     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صنعت برق اگر ايمني رعايت نشود ، خطر برق گرفتگي حتمي است. بنابراين قبل از دست زدن به سيم يا ادوات برقي جهت تعمير و يا هر گونه بازرسي بايستي حتماً جريان برق در مدار قطع بوده و مطمئن باشيد كه جريان برق وجود ندارد و آزمايش وجود يا عدم وجود جريان برق توسط فازمتر صورت ميگير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برق گرفتگي به دو دسته تقسيم مي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۱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بالا         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 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۲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- با ولتاژهاي پائ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موارد با ولتاژ بالا، حتماً بدن لازم نيست مستقيم با سيم يا كابل برق تماس داشته باشد بلكه ممكن است در فاصله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متري هم جريان برق از هوا عبور كند و به بدن فرد منتقل شود و باعث برق گرفتگي شود. در اين موارد هر چقدر ولتاژ برق و رطوبت هوا بالا باشد ميزان انتقال و آسيبي كه به بدن وارد مي شود بيشتر است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 موارد ولتاژ پائين بيشتر در خانه اتفاق مي افتد. مثلاً فرد از سيم لخت و يا وسايل برقي مخصوصاً آن دسته از وسايل كه در آنها آب ريخته مي شود آسيب مي بيند.ممكن است از طريق كليد برق برق گرفتگي ايجاد شو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در برق گرفتگي با ولتاژ پائين بدن فرد دچار لرزش مي شود حال آنكه در موارد با ولتاژ بالا بدليل گرفتگي عضلات، منجر به اتصال دائم با آن وسيله خواهد ش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برق گرفتگی ومهمترین عوارض آن: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با ورود جريان برق به بدن در اثر انقباضهاي الکتريکي سفت ( کزازي شکل ) عضلات تنفسي يا آسيب مراکز تنفسي در مغز ( در بصل النخاع ) ايست تنفسي عارض مي شود و پس از مدتي قلب نيز از حرکت مي ايستد . البته اگر جريان برق از خود قلب نيز عبور کرده باشد با ايجاد انقباضات کرمي شکل و غيرمؤثرو اسپاسموديک در بطن ( فيبريلاسيون بطني ) ايست قلبي اوليه خواهيم داشت . پس از ايست قلبي - تنفسي اگر در عرض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۴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تا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۶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دقيقه عمليات احياء شروع نشود مرگ قطعي و حتمي خواهد بود . اما قبل از شروع عمليات احياء ابتدا بايد تماس مصدوم را با جريان برق از بين ببريم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8" descr="ground%20fault%20safty"/>
          <p:cNvPicPr/>
          <p:nvPr/>
        </p:nvPicPr>
        <p:blipFill>
          <a:blip r:embed="rId1"/>
          <a:stretch/>
        </p:blipFill>
        <p:spPr>
          <a:xfrm>
            <a:off x="4648320" y="0"/>
            <a:ext cx="436716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دردناکترین عارضه برق گرفتگی سوختگی است، که حتی ممکن است برای فرد گران تمام شو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3" descr="hadeseh1185161980big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Tahoma"/>
              </a:rPr>
              <a:t>سوختگی با برق بیشتر در ناحیه دست و پا و صورت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untitled"/>
          <p:cNvPicPr/>
          <p:nvPr/>
        </p:nvPicPr>
        <p:blipFill>
          <a:blip r:embed="rId1"/>
          <a:stretch/>
        </p:blipFill>
        <p:spPr>
          <a:xfrm>
            <a:off x="4648320" y="2540160"/>
            <a:ext cx="4038480" cy="2997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مهمترین مسئله بعد از برق گرفتگی 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Tahoma"/>
              </a:rPr>
              <a:t>-دور کردن وسایل برقی از مصدوم اس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9" descr="electrical_injuries-int4"/>
          <p:cNvPicPr/>
          <p:nvPr/>
        </p:nvPicPr>
        <p:blipFill>
          <a:blip r:embed="rId1"/>
          <a:stretch/>
        </p:blipFill>
        <p:spPr>
          <a:xfrm>
            <a:off x="380880" y="16002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کمکهای اولیه دربرق گرفتگی :(خلاص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در ابتدا خونسردی خود را حفظ کن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 به مصدوم آرامش بدهی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نبود باید با آب پاکیزه محل سوختگی را شستشو داد(در مواقعی تا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 دقیقه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</a:rPr>
              <a:t>-اگر سوختگی زیاد بود،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يچ لباس و يا پوششي را روي محل آسيب ديده نگذاريد ويا حرکت نده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آب سرد و يا درمان طبي را براي سوختگي بکار نبر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در اولين وقت مصدوم را به بيمارستان برساني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052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    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ئوليتها :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نگهداری صحيح و بازرسی قبل از شروع کار در خصوص کابلهای نرم (انعطاف پذير) وسائل برقی قابل حمل و نقل بعهده کارگر و سرکارگر مربوطه است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و بسته نمودن در تابلوهای برق و يا هرگونه تعمير و يا تغييری در سيستم تابلوها و يا راه اندازی و برقراری مجدد جريان برق بعهده افراد ذيصلاح مجرب برقکار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ه قبلا از واحد برق کارخانه به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عرفی شده اند می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علامتگذاری و تعيين مشخصات کليه انواع قطع کننده های مدارهای برقی د رکاخانه بعهده رئيس واحد برق کارخانه است .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مسئوليت بازرسی دوره ای و هرگونه تست و آزمايشی بر روی تجهيزات برقی از قبيل کابلها ، قطع کننده های مدار ، فيوزها ، کليدها و ... و در نهايت رد يا قبول نمودن انها بعهده کارشناسان واحد برق و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است .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در صورت نياز به اخذ مجوز کار (بند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) سرپرست مربوطه ملزم به آگاه نمودن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کارخانه و نيز اخذ مجوز لازم باشد .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جهت صدور مجوز کار ، واحد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a-I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کارخانه ملزم به بازرسی شرايط کار و افراد از نظر رعايت سلامت و ايمنی لازم می باشد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e5ffff"/>
                </a:solidFill>
                <a:latin typeface="Tahoma"/>
              </a:rPr>
              <a:t>·       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شکايات وعلائ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صدومي که دچار برق گرفتگي مي شود ممکن است يکي يا تمام شکايات و علائم زير را داشته باشد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سوختگي هاي محل ورود و خروج جريان برق از بد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قطع راههاي عصبي که به صورت فلج اندام تظاهر مي کند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درد و حساس شدن ماهيچه ها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فزايش فشار خون يا کاهش فشار خون همراه با علايم و شکايات ناشي از شو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مشکل شدن تنفس  يا ايست تنفسي ( ممکن است زبان ورم کند و راه هوايي را مسدود نمايد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ضربانات نامنظم قلب يا ايست قلبي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 قراري و تحريک پذيري ، اگر مصدوم هوشيار است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بيهوش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اختلالات بينايي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شکستگي استخوانها ( از جمله ستون مهره ها ) و دررفتگي مفاصل به علت انقباضات شديد عضلات يا پرت شدن 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·         تشنج ( در موارد شديد )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114720" y="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8:48:57Z</dcterms:created>
  <dc:creator>ee</dc:creator>
  <dc:description/>
  <dc:language>en-US</dc:language>
  <cp:lastModifiedBy>Smile</cp:lastModifiedBy>
  <dcterms:modified xsi:type="dcterms:W3CDTF">2020-03-08T13:30:41Z</dcterms:modified>
  <cp:revision>21</cp:revision>
  <dc:subject/>
  <dc:title>بسمه تعالي  موضوع: ایمنی برق  استاد: آقای دکتر غلامنیا  دانشجو: محمد مقیسه  رشته: بهداشت حرفه اي</dc:title>
</cp:coreProperties>
</file>