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535B-7E97-4831-8570-960B9C0E141F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E1C8-0269-4994-82F8-3D8B1C361021}" type="slidenum">
              <a:rPr b="0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9B3-9875-4716-ACB4-93489F41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858-2BC8-4FF2-9761-2A6F22B3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D43-987F-4216-8D74-1B02A691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9E7-FA3C-40EA-B6BC-311229F9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2BD-7C44-4DF6-9DEF-7DE411EB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C86-9C02-41DD-B056-96832B4A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F95-3D25-4605-8249-F2A8B5A6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355-5DCC-4FAD-BBF8-922B9ABD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A51-A7ED-42B3-BEB3-06A77CF3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08C-BA82-4294-8BDC-86A2B6D7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C65-8AE6-46DB-B3FB-A9D560F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1D8-B4C4-4915-B22C-46AA6C31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5930-0955-44B6-9E4B-81546E14C78D}" type="slidenum">
              <a:rPr b="0" lang="fa-I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over"/>
          <p:cNvPicPr/>
          <p:nvPr/>
        </p:nvPicPr>
        <p:blipFill>
          <a:blip r:embed="rId1"/>
          <a:stretch/>
        </p:blipFill>
        <p:spPr>
          <a:xfrm>
            <a:off x="609480" y="220968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76520" y="2286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ahoma"/>
              </a:rPr>
              <a:t>ایمنی بر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مجوز کار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عمليات خاک برداری د رمناطقی که قبلا سيم برق درون زمين دفن گرديده  ، اخذ مجوز کار (حفاری و خاک برداری)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انجام کار بر روی سيستمهای برقدار (امکان قطع برق نباشد )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جهت انجام عمليات تنش زدائی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ST WELDING HEAT TREATMEN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) با ولتاژ بالا ،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نكات ايمني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الا رفتن از پايه هاي برق براي افراد غيرمسئول ممنوع و خطرناك است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خطر برق گرفتگي و سقوط جان افرادي را كه از پايه هاي برق بالا ميروند تهديد ميكن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مل وسايل فلزي با ارتفاع زياد ( لوله فلزي  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 نردبان فلزي و ...  ) در زيرو نزديك شبكه هاي برق بسيار خطرناك اس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درصورت پاره شدن سيم هاي برق از دست زدن به آنها خود دار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وسايل برقي فاقد دو شاخه برق بسيار خطرناك و حادثه ساز است .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چ گاه به وسائل و ابزار برقي معيوب اطمينان نكني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يك پريز برق براي روشن نمودن همزمان چند وسيله برقي خطرناك و حادثه ساز است 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نگام تماس دست با بدنه فلزي وسايل برقي از تماس قسمتهاي ديگر بدن به ديوار يا شير آب و كابينت هاي فلزي خود داري كنيد و حتماً دمپايي پلاستيكي خشك بپوشي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وادث برقي نسبت به بقيه حوادث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برابر خطرناكتر است . بيائيد از حوادث عبرت بگي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آب  هادي جريان برق است هنگام آب پاشي از بكارگيري شلنگ آب در نزديكي شبكه‌هاي و تجهيزات برقدار جداً خودداري كنيد 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تخريب عايق بندي مصرف كننده‌هاي الكتريكي جداً پرهيز شو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 صورت وجود هر گونه نقص در تجهيزات الكتريكي مراتب را به افراد متخص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طلاع ده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ستفاده از ابزار فلزي مانند نردبان فلزي، چهار پايه فلزي و ... بعنوان زيرپائي هنگام تعويض لامپ ممكن است موجب تشديد برق گرفتگي در صورت تماس دست با هادي برق شو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تميز كردن هر گونه وسيله برقي ابتدا آنرا از پريز برق جدا نمائ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استفاده از تجهيزات الكتريكي از سالم بودن سيم رابط و دوشاخه و برقدار نبودن بدنه‌آن مطمئن شويد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 سيم هاي سيار را بلافاصله پس از استفاده جمع آوري و در محل منلسب نگهداري نمائي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برخي لامپها توليد حرارت بالا نموده و لذا داغ مي شوند از قرار دادن اشياء قابل احتراق در نزديكي اين لامپها جدأ خودداري نمائي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. . هرگز از آب براي خاموش كردن آتش سوزيهاي نزديك تأسيسات و لوازم برقدار بدون قطع برق آنها استفاده ن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7339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28" descr="254x3ds"/>
          <p:cNvPicPr/>
          <p:nvPr/>
        </p:nvPicPr>
        <p:blipFill>
          <a:blip r:embed="rId1"/>
          <a:stretch/>
        </p:blipFill>
        <p:spPr>
          <a:xfrm>
            <a:off x="457200" y="380880"/>
            <a:ext cx="464832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Line 34"/>
          <p:cNvSpPr/>
          <p:nvPr/>
        </p:nvSpPr>
        <p:spPr>
          <a:xfrm flipV="1">
            <a:off x="685800" y="3657600"/>
            <a:ext cx="83808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5" descr="shock"/>
          <p:cNvPicPr/>
          <p:nvPr/>
        </p:nvPicPr>
        <p:blipFill>
          <a:blip r:embed="rId2"/>
          <a:stretch/>
        </p:blipFill>
        <p:spPr>
          <a:xfrm>
            <a:off x="5410080" y="380880"/>
            <a:ext cx="3645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New York_2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5ffff"/>
                </a:solidFill>
                <a:latin typeface="Tahoma"/>
              </a:rPr>
              <a:t>مقد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Tahoma"/>
              </a:rPr>
              <a:t>  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صنعت برق اگر ايمني رعايت نشود ، خطر برق گرفتگي حتمي است. بنابراين قبل از دست زدن به سيم يا ادوات برقي جهت تعمير و يا هر گونه بازرسي بايستي حتماً جريان برق در مدار قطع بوده و مطمئن باشيد كه جريان برق وجود ندارد و آزمايش وجود يا عدم وجود جريان برق توسط فازمتر صورت ميگير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برق گرفتگي به دو دسته تقسيم مي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۱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بالا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۲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پائ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موارد با ولتاژ بالا، حتماً بدن لازم نيست مستقيم با سيم يا كابل برق تماس داشته باشد بلكه ممكن است در فاصله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تري هم جريان برق از هوا عبور كند و به بدن فرد منتقل شود و باعث برق گرفتگي شود. در اين موارد هر چقدر ولتاژ برق و رطوبت هوا بالا باشد ميزان انتقال و آسيبي كه به بدن وارد مي شود بيشتر است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موارد ولتاژ پائين بيشتر در خانه اتفاق مي افتد. مثلاً فرد از سيم لخت و يا وسايل برقي مخصوصاً آن دسته از وسايل كه در آنها آب ريخته مي شود آسيب مي بيند.ممكن است از طريق كليد برق برق گرفتگي ايجاد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برق گرفتگي با ولتاژ پائين بدن فرد دچار لرزش مي شود حال آنكه در موارد با ولتاژ بالا بدليل گرفتگي عضلات، منجر به اتصال دائم با آن وسيله خواهد ش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برق گرفتگی ومهمترین عوارض آن: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با ورود جريان برق به بدن در اثر انقباضهاي الکتريکي سفت ( کزازي شکل ) عضلات تنفسي يا آسيب مراکز تنفسي در مغز ( در بصل النخاع ) ايست تنفسي عارض مي شود و پس از مدتي قلب نيز از حرکت مي ايستد . البته اگر جريان برق از خود قلب نيز عبور کرده باشد با ايجاد انقباضات کرمي شکل و غيرمؤثرو اسپاسموديک در بطن ( فيبريلاسيون بطني ) ايست قلبي اوليه خواهيم داشت . پس از ايست قلبي - تنفسي اگر در عرض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۴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تا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۶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دقيقه عمليات احياء شروع نشود مرگ قطعي و حتمي خواهد بود . اما قبل از شروع عمليات احياء ابتدا بايد تماس مصدوم را با جريان برق از بين بب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8" descr="ground%20fault%20safty"/>
          <p:cNvPicPr/>
          <p:nvPr/>
        </p:nvPicPr>
        <p:blipFill>
          <a:blip r:embed="rId1"/>
          <a:stretch/>
        </p:blipFill>
        <p:spPr>
          <a:xfrm>
            <a:off x="4648320" y="0"/>
            <a:ext cx="43671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دناکترین عارضه برق گرفتگی سوختگی است، که حتی ممکن است برای فرد گران تمام 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" descr="hadeseh1185161980bi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سوختگی با برق بیشتر در ناحیه دست و پا و صورت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untitled"/>
          <p:cNvPicPr/>
          <p:nvPr/>
        </p:nvPicPr>
        <p:blipFill>
          <a:blip r:embed="rId1"/>
          <a:stretch/>
        </p:blipFill>
        <p:spPr>
          <a:xfrm>
            <a:off x="4648320" y="2540160"/>
            <a:ext cx="4038480" cy="2997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مهمترین مسئله بعد از برق گرفتگی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-دور کردن وسایل برقی از مصدوم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9" descr="electrical_injuries-int4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کمکهای اولیه دربرق گرفتگی :(خلاص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در ابتدا خونسردی خود را حفظ کن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به مصدوم آرامش بده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نبود باید با آب پاکیزه محل سوختگی را شستشو داد(در مواقعی تا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دقیق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بود،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يچ لباس و يا پوششي را روي محل آسيب ديده نگذاريد ويا حرکت نده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آب سرد و يا درمان طبي را براي سوختگي بکار نبر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 اولين وقت مصدوم را به بيمارستان برسان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ئوليتها :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نگهداری صحيح و بازرسی قبل از شروع کار در خصوص کابلهای نرم (انعطاف پذير) وسائل برقی قابل حمل و نقل بعهده کارگر و سرکارگر مربوطه است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و بسته نمودن در تابلوهای برق و يا هرگونه تعمير و يا تغييری در سيستم تابلوها و يا راه اندازی و برقراری مجدد جريان برق بعهده افراد ذيصلاح مجرب برقکار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ه قبلا از واحد برق کارخانه به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عرفی شده اند می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علامتگذاری و تعيين مشخصات کليه انواع قطع کننده های مدارهای برقی د رکاخانه بعهده رئيس واحد برق کارخانه است .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رسی دوره ای و هرگونه تست و آزمايشی بر روی تجهيزات برقی از قبيل کابلها ، قطع کننده های مدار ، فيوزها ، کليدها و ... و در نهايت رد يا قبول نمودن انها بعهده کارشناسان واحد برق و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است .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در صورت نياز به اخذ مجوز کار (بند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) سرپرست مربوطه ملزم به آگاه نمودن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کارخانه و نيز اخذ مجوز لازم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جهت صدور مجوز کار ،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لزم به بازرسی شرايط کار و افراد از نظر رعايت سلامت و ايمنی لازم می باش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·      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کايات وعلائ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صدومي که دچار برق گرفتگي مي شود ممکن است يکي يا تمام شکايات و علائم زير را داشته باشد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سوختگي هاي محل ورود و خروج جريان برق از بد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قطع راههاي عصبي که به صورت فلج اندام تظاهر مي کند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درد و حساس شدن ماهيچه ها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فزايش فشار خون يا کاهش فشار خون همراه با علايم و شکايات ناشي از شو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مشکل شدن تنفس  يا ايست تنفسي ( ممکن است زبان ورم کند و راه هوايي را مسدود نمايد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ضربانات نامنظم قلب يا ايست قلبي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 قراري و تحريک پذيري ، اگر مصدوم هوشيار است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هوش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ختلالات بينايي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شکستگي استخوانها ( از جمله ستون مهره ها ) و دررفتگي مفاصل به علت انقباضات شديد عضلات يا پرت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تشنج ( در موارد شديد )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8:48:57Z</dcterms:created>
  <dc:creator>ee</dc:creator>
  <dc:description/>
  <dc:language>en-US</dc:language>
  <cp:lastModifiedBy>Smile</cp:lastModifiedBy>
  <dcterms:modified xsi:type="dcterms:W3CDTF">2020-03-08T13:30:41Z</dcterms:modified>
  <cp:revision>21</cp:revision>
  <dc:subject/>
  <dc:title>بسمه تعالي  موضوع: ایمنی برق  استاد: آقای دکتر غلامنیا  دانشجو: محمد مقیسه  رشته: بهداشت حرفه اي</dc:title>
</cp:coreProperties>
</file>